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3C6CE8-E30D-4C37-816E-F5B0F879BB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CAD345-67F1-4C66-A1CD-456B81E540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6F5A7C-466F-4768-A548-D20362ABAA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0C9819-C3F9-4B8A-B72D-DBC1C08C20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258920" y="72216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E8135A-18A2-4D99-92C8-8670FCA44A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F772B6-74E1-4D4D-8264-F06315F35C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06CAED-A4D6-4E5C-A81D-494CBA1EBF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AEC9DA-A780-4EF8-8E59-A185918890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D77642-32D4-497F-87E5-C238A986B9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8723F3-6A5E-49A5-83FC-66851178D9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9FDA9F-EF42-4345-9184-D87B1B4659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95ED-180C-4333-979D-7A72A6DF4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BF26-FB3B-4930-9D5B-8642C7E0C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3E9E-F93B-47B6-9A12-E60EA4D80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F4CD-C0FC-4D5C-A010-E3651C92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C15E-DA97-47E6-9793-DEF1C1970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B9C8-5AD2-4B4E-8AA8-81F0B3E4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8BE4-58DC-4850-9A8E-ECBDBA88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D589-052A-44D3-8087-A41110FF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A862-F8EE-4F6D-A823-3C1B678B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B683-5E80-4441-9BA6-6D80DFBA5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1897-4B01-4AD5-A5FE-AE05E7897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23E1-DFBE-4F3B-A142-02964D23C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c0c0c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3" descr="ibm_white_logo_300dpi"/>
          <p:cNvPicPr/>
          <p:nvPr/>
        </p:nvPicPr>
        <p:blipFill>
          <a:blip r:embed="rId2"/>
          <a:srcRect l="0" t="0" r="6479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1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5736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x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2416320" y="6643800"/>
            <a:ext cx="4039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Times New Roman"/>
              </a:rPr>
              <a:t>IBM AND BIG BOX COMPANY CONFIDENTIAL – FOR INTERNAL USE ON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8"/>
          <p:cNvSpPr/>
          <p:nvPr/>
        </p:nvSpPr>
        <p:spPr>
          <a:xfrm flipH="1">
            <a:off x="0" y="57636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 flipH="1">
            <a:off x="0" y="647712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82440" y="6643800"/>
            <a:ext cx="12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June 15,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7113600" y="6643800"/>
            <a:ext cx="1722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Page </a:t>
            </a:r>
            <a:fld id="{799C0C3A-4C22-490C-92D1-951C33F54A56}" type="slidenum">
              <a:rPr b="1" lang="en-US" sz="8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ibm_light_gray_logo_300dpi"/>
          <p:cNvPicPr/>
          <p:nvPr/>
        </p:nvPicPr>
        <p:blipFill>
          <a:blip r:embed="rId2"/>
          <a:srcRect l="0" t="0" r="6497" b="0"/>
          <a:stretch/>
        </p:blipFill>
        <p:spPr>
          <a:xfrm>
            <a:off x="8229600" y="1522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47680" y="200160"/>
            <a:ext cx="201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x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2625840" y="6643800"/>
            <a:ext cx="4116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Times New Roman"/>
              </a:rPr>
              <a:t>IBM AND BIG BOX COMPANY CONFIDENTIAL – FOR INTERNAL USE ON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8"/>
          <p:cNvSpPr/>
          <p:nvPr/>
        </p:nvSpPr>
        <p:spPr>
          <a:xfrm flipH="1">
            <a:off x="0" y="57636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9"/>
          <p:cNvSpPr/>
          <p:nvPr/>
        </p:nvSpPr>
        <p:spPr>
          <a:xfrm flipH="1">
            <a:off x="0" y="647712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82440" y="6643800"/>
            <a:ext cx="12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June 15,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7113600" y="6643800"/>
            <a:ext cx="1722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Page </a:t>
            </a:r>
            <a:fld id="{EBEA1499-9295-40BC-A86B-0A4548DC7BA3}" type="slidenum">
              <a:rPr b="1" lang="en-US" sz="8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ibm_light_gray_logo_300dpi"/>
          <p:cNvPicPr/>
          <p:nvPr/>
        </p:nvPicPr>
        <p:blipFill>
          <a:blip r:embed="rId2"/>
          <a:srcRect l="0" t="0" r="6497" b="0"/>
          <a:stretch/>
        </p:blipFill>
        <p:spPr>
          <a:xfrm>
            <a:off x="8229600" y="1522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B1E95-D071-4E01-A403-FE02CA52B6A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7680" y="200160"/>
            <a:ext cx="201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x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ig Box Company Software Development Lifecycle Assessm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indings and Recommend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June 15, 20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c0c0c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3" descr="ibm_white_logo_300dpi"/>
          <p:cNvPicPr/>
          <p:nvPr/>
        </p:nvPicPr>
        <p:blipFill>
          <a:blip r:embed="rId1"/>
          <a:srcRect l="0" t="0" r="6479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1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33360" y="542880"/>
            <a:ext cx="26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x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’s Working W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28600" y="1456920"/>
            <a:ext cx="87631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rrent process provides valuable checkpoi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ganizational focus on tes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ckets of good practices for requirements definition, architecture, quality and supporting discip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mitment to follow the SDL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rly prototyping supports requirements visual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ginning to enable data govern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presentative Challen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68120" y="892080"/>
            <a:ext cx="876312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Timing, Accountability and Collaboration between Business and IT needs to be optimiz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Requirements Definitions techniques are applied inconsistentl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Inflexible application of SDLC and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Gating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Access and identification of reusable content is limi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Manually intensive software development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Requirements lack enough detail for t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Developer test is incomple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Test Cases are not consistently trac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Builds are manual and inconsist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Architecture Governance stops at Gate 2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3"/>
          <p:cNvSpPr/>
          <p:nvPr/>
        </p:nvSpPr>
        <p:spPr>
          <a:xfrm>
            <a:off x="438120" y="973080"/>
            <a:ext cx="430524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)  Timing, Accountability and Collaboration between Business and IT needs to be optim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consistent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4"/>
          <p:cNvSpPr/>
          <p:nvPr/>
        </p:nvSpPr>
        <p:spPr>
          <a:xfrm>
            <a:off x="406440" y="3600360"/>
            <a:ext cx="42624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2)  Requirements Definitions techniques are applied inconsist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ide variation in us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834080" y="738360"/>
            <a:ext cx="4047840" cy="26571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767120" y="3352680"/>
            <a:ext cx="41054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34"/>
          <p:cNvSpPr/>
          <p:nvPr/>
        </p:nvSpPr>
        <p:spPr>
          <a:xfrm>
            <a:off x="406440" y="3600360"/>
            <a:ext cx="42624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4)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ccess and identification of reusable content is lim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roject-centric fo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4"/>
          <p:cNvSpPr/>
          <p:nvPr/>
        </p:nvSpPr>
        <p:spPr>
          <a:xfrm>
            <a:off x="471600" y="911160"/>
            <a:ext cx="42624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flexible application of SDLC and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at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mpacts ability to respond to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962600" y="747720"/>
            <a:ext cx="4019400" cy="29052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943520" y="3676680"/>
            <a:ext cx="40482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6"/>
          <p:cNvSpPr/>
          <p:nvPr/>
        </p:nvSpPr>
        <p:spPr>
          <a:xfrm>
            <a:off x="406440" y="3600360"/>
            <a:ext cx="422100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6)  Requirements lack enough detail for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dditional work rather then using current artif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415800" y="871560"/>
            <a:ext cx="42213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anually intensive software development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automation and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800600" y="733320"/>
            <a:ext cx="4095720" cy="28767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819680" y="3695760"/>
            <a:ext cx="418140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6"/>
          <p:cNvSpPr/>
          <p:nvPr/>
        </p:nvSpPr>
        <p:spPr>
          <a:xfrm>
            <a:off x="406440" y="3600360"/>
            <a:ext cx="422100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8)  Test Cases are not consistently tra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ot all test cases traced to original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438120" y="973080"/>
            <a:ext cx="42339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7)  Developer test is in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imited implementation of test frameworks and build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767120" y="766800"/>
            <a:ext cx="4124520" cy="28098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4767120" y="3662280"/>
            <a:ext cx="406728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33"/>
          <p:cNvSpPr/>
          <p:nvPr/>
        </p:nvSpPr>
        <p:spPr>
          <a:xfrm>
            <a:off x="189360" y="973080"/>
            <a:ext cx="47332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9)  Builds are manual and inconsis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Very early adoption with build scri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4"/>
          <p:cNvSpPr/>
          <p:nvPr/>
        </p:nvSpPr>
        <p:spPr>
          <a:xfrm>
            <a:off x="406440" y="3600360"/>
            <a:ext cx="422100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rchitecture Governance stops at Gate 2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ed on infrastructure and not verified during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4"/>
          <p:cNvSpPr/>
          <p:nvPr/>
        </p:nvSpPr>
        <p:spPr>
          <a:xfrm>
            <a:off x="5872320" y="6168960"/>
            <a:ext cx="984240" cy="231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76092"/>
                </a:solidFill>
                <a:latin typeface="Arial"/>
              </a:rPr>
              <a:t>Repeat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038560" y="671400"/>
            <a:ext cx="3867480" cy="28479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948200" y="3591000"/>
            <a:ext cx="40100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52"/>
          <p:cNvSpPr/>
          <p:nvPr/>
        </p:nvSpPr>
        <p:spPr>
          <a:xfrm>
            <a:off x="419040" y="639720"/>
            <a:ext cx="8215200" cy="5351400"/>
          </a:xfrm>
          <a:prstGeom prst="rect">
            <a:avLst/>
          </a:prstGeom>
          <a:gradFill rotWithShape="0">
            <a:gsLst>
              <a:gs pos="0">
                <a:srgbClr val="243559"/>
              </a:gs>
              <a:gs pos="100000">
                <a:srgbClr val="66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3"/>
          <p:cNvSpPr/>
          <p:nvPr/>
        </p:nvSpPr>
        <p:spPr>
          <a:xfrm>
            <a:off x="623880" y="812880"/>
            <a:ext cx="8097840" cy="52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17320" y="-360"/>
            <a:ext cx="846756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ptions:  Effort vs. Valu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3"/>
          <p:cNvSpPr/>
          <p:nvPr/>
        </p:nvSpPr>
        <p:spPr>
          <a:xfrm>
            <a:off x="463680" y="6153120"/>
            <a:ext cx="21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Effort to Imp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4"/>
          <p:cNvSpPr/>
          <p:nvPr/>
        </p:nvSpPr>
        <p:spPr>
          <a:xfrm rot="16200000">
            <a:off x="-1310040" y="4424760"/>
            <a:ext cx="314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Potential Business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4"/>
          <p:cNvSpPr/>
          <p:nvPr/>
        </p:nvSpPr>
        <p:spPr>
          <a:xfrm>
            <a:off x="4840200" y="1406520"/>
            <a:ext cx="878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gag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Busines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esourc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ar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4"/>
          <p:cNvSpPr/>
          <p:nvPr/>
        </p:nvSpPr>
        <p:spPr>
          <a:xfrm>
            <a:off x="2039760" y="2390760"/>
            <a:ext cx="15242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equirements Management &amp; Com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ce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3"/>
          <p:cNvSpPr/>
          <p:nvPr/>
        </p:nvSpPr>
        <p:spPr>
          <a:xfrm>
            <a:off x="5634000" y="1430280"/>
            <a:ext cx="1346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Involve all in development of detailed design and requir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4"/>
          <p:cNvSpPr/>
          <p:nvPr/>
        </p:nvSpPr>
        <p:spPr>
          <a:xfrm>
            <a:off x="7297560" y="2771640"/>
            <a:ext cx="121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Establish hardware testing su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5"/>
          <p:cNvSpPr/>
          <p:nvPr/>
        </p:nvSpPr>
        <p:spPr>
          <a:xfrm>
            <a:off x="3106800" y="1589040"/>
            <a:ext cx="990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Develop automated testing su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4"/>
          <p:cNvSpPr/>
          <p:nvPr/>
        </p:nvSpPr>
        <p:spPr>
          <a:xfrm>
            <a:off x="1125360" y="3265560"/>
            <a:ext cx="152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rchitectural Govern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4"/>
          <p:cNvSpPr/>
          <p:nvPr/>
        </p:nvSpPr>
        <p:spPr>
          <a:xfrm>
            <a:off x="4173480" y="334152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esig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ode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4"/>
          <p:cNvSpPr/>
          <p:nvPr/>
        </p:nvSpPr>
        <p:spPr>
          <a:xfrm>
            <a:off x="1887480" y="158904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utom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Buil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5"/>
          <p:cNvSpPr/>
          <p:nvPr/>
        </p:nvSpPr>
        <p:spPr>
          <a:xfrm>
            <a:off x="973080" y="1589040"/>
            <a:ext cx="17524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Devel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Unit Tes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4"/>
          <p:cNvSpPr/>
          <p:nvPr/>
        </p:nvSpPr>
        <p:spPr>
          <a:xfrm>
            <a:off x="2344680" y="33415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D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ailo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4"/>
          <p:cNvSpPr/>
          <p:nvPr/>
        </p:nvSpPr>
        <p:spPr>
          <a:xfrm>
            <a:off x="3335400" y="31129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rocess Mode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4"/>
          <p:cNvSpPr/>
          <p:nvPr/>
        </p:nvSpPr>
        <p:spPr>
          <a:xfrm>
            <a:off x="3564000" y="15127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s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as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onsistenc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39"/>
          <p:cNvSpPr/>
          <p:nvPr/>
        </p:nvSpPr>
        <p:spPr>
          <a:xfrm>
            <a:off x="1582560" y="30369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37"/>
          <p:cNvSpPr/>
          <p:nvPr/>
        </p:nvSpPr>
        <p:spPr>
          <a:xfrm>
            <a:off x="143028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38"/>
          <p:cNvSpPr/>
          <p:nvPr/>
        </p:nvSpPr>
        <p:spPr>
          <a:xfrm>
            <a:off x="219240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41"/>
          <p:cNvSpPr/>
          <p:nvPr/>
        </p:nvSpPr>
        <p:spPr>
          <a:xfrm>
            <a:off x="3106800" y="311292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42"/>
          <p:cNvSpPr/>
          <p:nvPr/>
        </p:nvSpPr>
        <p:spPr>
          <a:xfrm>
            <a:off x="2344680" y="21225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43"/>
          <p:cNvSpPr/>
          <p:nvPr/>
        </p:nvSpPr>
        <p:spPr>
          <a:xfrm>
            <a:off x="3411360" y="12081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44"/>
          <p:cNvSpPr/>
          <p:nvPr/>
        </p:nvSpPr>
        <p:spPr>
          <a:xfrm>
            <a:off x="524016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46"/>
          <p:cNvSpPr/>
          <p:nvPr/>
        </p:nvSpPr>
        <p:spPr>
          <a:xfrm>
            <a:off x="4782960" y="30369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47"/>
          <p:cNvSpPr/>
          <p:nvPr/>
        </p:nvSpPr>
        <p:spPr>
          <a:xfrm>
            <a:off x="607860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4"/>
          <p:cNvSpPr/>
          <p:nvPr/>
        </p:nvSpPr>
        <p:spPr>
          <a:xfrm>
            <a:off x="7437600" y="1473120"/>
            <a:ext cx="1126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Pilot incremental and  iterative delivery (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51"/>
          <p:cNvSpPr/>
          <p:nvPr/>
        </p:nvSpPr>
        <p:spPr>
          <a:xfrm>
            <a:off x="8136000" y="12081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53"/>
          <p:cNvSpPr/>
          <p:nvPr/>
        </p:nvSpPr>
        <p:spPr>
          <a:xfrm>
            <a:off x="896760" y="30369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5"/>
          <p:cNvSpPr/>
          <p:nvPr/>
        </p:nvSpPr>
        <p:spPr>
          <a:xfrm>
            <a:off x="592200" y="3341520"/>
            <a:ext cx="9903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Arch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Self-Aud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55"/>
          <p:cNvSpPr/>
          <p:nvPr/>
        </p:nvSpPr>
        <p:spPr>
          <a:xfrm>
            <a:off x="6840360" y="219852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4"/>
          <p:cNvSpPr/>
          <p:nvPr/>
        </p:nvSpPr>
        <p:spPr>
          <a:xfrm>
            <a:off x="6078600" y="2427120"/>
            <a:ext cx="1600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terprise A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gmt 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59"/>
          <p:cNvSpPr/>
          <p:nvPr/>
        </p:nvSpPr>
        <p:spPr>
          <a:xfrm>
            <a:off x="424980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60"/>
          <p:cNvSpPr/>
          <p:nvPr/>
        </p:nvSpPr>
        <p:spPr>
          <a:xfrm>
            <a:off x="280188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4"/>
          <p:cNvSpPr/>
          <p:nvPr/>
        </p:nvSpPr>
        <p:spPr>
          <a:xfrm>
            <a:off x="2192400" y="158904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har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i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4"/>
          <p:cNvSpPr/>
          <p:nvPr/>
        </p:nvSpPr>
        <p:spPr>
          <a:xfrm>
            <a:off x="5043600" y="4695840"/>
            <a:ext cx="34225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24"/>
              </a:spcAft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includes right-timing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24"/>
              </a:spcAft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includes shared view of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traight Connector 64"/>
          <p:cNvSpPr/>
          <p:nvPr/>
        </p:nvSpPr>
        <p:spPr>
          <a:xfrm flipH="1">
            <a:off x="4649760" y="816120"/>
            <a:ext cx="1440" cy="519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66"/>
          <p:cNvSpPr/>
          <p:nvPr/>
        </p:nvSpPr>
        <p:spPr>
          <a:xfrm>
            <a:off x="649440" y="4522680"/>
            <a:ext cx="8001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4"/>
          <p:cNvSpPr/>
          <p:nvPr/>
        </p:nvSpPr>
        <p:spPr>
          <a:xfrm rot="16200000">
            <a:off x="-159840" y="5133600"/>
            <a:ext cx="197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ow to Med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4"/>
          <p:cNvSpPr/>
          <p:nvPr/>
        </p:nvSpPr>
        <p:spPr>
          <a:xfrm rot="16200000">
            <a:off x="-313560" y="1863000"/>
            <a:ext cx="228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edium   to Very  H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71"/>
          <p:cNvSpPr/>
          <p:nvPr/>
        </p:nvSpPr>
        <p:spPr>
          <a:xfrm>
            <a:off x="4782960" y="387504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4"/>
          <p:cNvSpPr/>
          <p:nvPr/>
        </p:nvSpPr>
        <p:spPr>
          <a:xfrm>
            <a:off x="4173480" y="407844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Govern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4"/>
          <p:cNvSpPr/>
          <p:nvPr/>
        </p:nvSpPr>
        <p:spPr>
          <a:xfrm>
            <a:off x="5621400" y="31129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terprise Archite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74"/>
          <p:cNvSpPr/>
          <p:nvPr/>
        </p:nvSpPr>
        <p:spPr>
          <a:xfrm>
            <a:off x="6078600" y="288432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75"/>
          <p:cNvSpPr/>
          <p:nvPr/>
        </p:nvSpPr>
        <p:spPr>
          <a:xfrm>
            <a:off x="5468760" y="30369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4"/>
          <p:cNvSpPr/>
          <p:nvPr/>
        </p:nvSpPr>
        <p:spPr>
          <a:xfrm>
            <a:off x="4782960" y="330660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etr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4"/>
          <p:cNvSpPr/>
          <p:nvPr/>
        </p:nvSpPr>
        <p:spPr>
          <a:xfrm>
            <a:off x="2725560" y="2503440"/>
            <a:ext cx="152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D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i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81"/>
          <p:cNvSpPr/>
          <p:nvPr/>
        </p:nvSpPr>
        <p:spPr>
          <a:xfrm>
            <a:off x="3335400" y="227484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55"/>
          <p:cNvSpPr/>
          <p:nvPr/>
        </p:nvSpPr>
        <p:spPr>
          <a:xfrm flipV="1">
            <a:off x="2619360" y="6345360"/>
            <a:ext cx="46404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54"/>
          <p:cNvSpPr/>
          <p:nvPr/>
        </p:nvSpPr>
        <p:spPr>
          <a:xfrm>
            <a:off x="7645320" y="244152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6" name="Straight Arrow Connector 57"/>
          <p:cNvCxnSpPr/>
          <p:nvPr/>
        </p:nvCxnSpPr>
        <p:spPr>
          <a:xfrm flipV="1">
            <a:off x="290880" y="880200"/>
            <a:ext cx="2520" cy="225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7" name="Oval 56"/>
          <p:cNvSpPr/>
          <p:nvPr/>
        </p:nvSpPr>
        <p:spPr>
          <a:xfrm>
            <a:off x="4030560" y="283680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58"/>
          <p:cNvSpPr/>
          <p:nvPr/>
        </p:nvSpPr>
        <p:spPr>
          <a:xfrm>
            <a:off x="5106960" y="538020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71"/>
          <p:cNvSpPr/>
          <p:nvPr/>
        </p:nvSpPr>
        <p:spPr>
          <a:xfrm>
            <a:off x="5095800" y="56973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4"/>
          <p:cNvSpPr/>
          <p:nvPr/>
        </p:nvSpPr>
        <p:spPr>
          <a:xfrm>
            <a:off x="5396040" y="5595840"/>
            <a:ext cx="34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addresses other challeng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4"/>
          <p:cNvSpPr/>
          <p:nvPr/>
        </p:nvSpPr>
        <p:spPr>
          <a:xfrm>
            <a:off x="5396040" y="5359320"/>
            <a:ext cx="34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addresses top challeng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382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tential Inhibitors to Adop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666720" y="942840"/>
          <a:ext cx="7991640" cy="5077080"/>
        </p:xfrm>
        <a:graphic>
          <a:graphicData uri="http://schemas.openxmlformats.org/drawingml/2006/table">
            <a:tbl>
              <a:tblPr/>
              <a:tblGrid>
                <a:gridCol w="3995640"/>
                <a:gridCol w="3996000"/>
              </a:tblGrid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hibi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tigation Strate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9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fficulty accepting alternative forms of documentation and development and/or agile practi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ining and knowledge transf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lot projects with alternative development approach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9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ceived initial impact of recommendations on program  and project time and c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sure visible sponsorsh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formance goals related to adoption of mod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ect a learning cur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siness/IT Collabo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ve to shared business and IT ownership of sol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0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xt Steps…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2826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4"/>
          <p:cNvSpPr/>
          <p:nvPr/>
        </p:nvSpPr>
        <p:spPr>
          <a:xfrm>
            <a:off x="6210360" y="762120"/>
            <a:ext cx="2819520" cy="534960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5349600"/>
              <a:gd name="textAreaBottom" fmla="*/ 5349960 h 534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ef99">
                  <a:alpha val="7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5"/>
          <p:cNvSpPr/>
          <p:nvPr/>
        </p:nvSpPr>
        <p:spPr>
          <a:xfrm>
            <a:off x="4586400" y="762120"/>
            <a:ext cx="2563560" cy="5333760"/>
          </a:xfrm>
          <a:custGeom>
            <a:avLst/>
            <a:gdLst>
              <a:gd name="textAreaLeft" fmla="*/ 0 w 2563560"/>
              <a:gd name="textAreaRight" fmla="*/ 2563920 w 2563560"/>
              <a:gd name="textAreaTop" fmla="*/ 0 h 5333760"/>
              <a:gd name="textAreaBottom" fmla="*/ 5334120 h 5333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ce0ba">
                  <a:alpha val="7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6"/>
          <p:cNvSpPr/>
          <p:nvPr/>
        </p:nvSpPr>
        <p:spPr>
          <a:xfrm>
            <a:off x="2720880" y="822240"/>
            <a:ext cx="2590920" cy="534996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5349960"/>
              <a:gd name="textAreaBottom" fmla="*/ 5350320 h 534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9999">
                  <a:alpha val="74117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7"/>
          <p:cNvSpPr/>
          <p:nvPr/>
        </p:nvSpPr>
        <p:spPr>
          <a:xfrm>
            <a:off x="352440" y="822240"/>
            <a:ext cx="2673360" cy="5349960"/>
          </a:xfrm>
          <a:custGeom>
            <a:avLst/>
            <a:gdLst>
              <a:gd name="textAreaLeft" fmla="*/ 0 w 2673360"/>
              <a:gd name="textAreaRight" fmla="*/ 2673720 w 2673360"/>
              <a:gd name="textAreaTop" fmla="*/ 0 h 5349960"/>
              <a:gd name="textAreaBottom" fmla="*/ 5350320 h 534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0a9fa">
                  <a:alpha val="7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6834240" y="1066680"/>
            <a:ext cx="13730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Communica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Roadma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615960" y="1066680"/>
            <a:ext cx="102852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Roadmap Worksho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2901960" y="1063800"/>
            <a:ext cx="10936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Finalize Roadma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1"/>
          <p:cNvSpPr/>
          <p:nvPr/>
        </p:nvSpPr>
        <p:spPr>
          <a:xfrm>
            <a:off x="5054760" y="1066680"/>
            <a:ext cx="11538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Executiv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Summa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2"/>
          <p:cNvSpPr/>
          <p:nvPr/>
        </p:nvSpPr>
        <p:spPr>
          <a:xfrm>
            <a:off x="-495360" y="2071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3"/>
          <p:cNvSpPr/>
          <p:nvPr/>
        </p:nvSpPr>
        <p:spPr>
          <a:xfrm>
            <a:off x="739800" y="230184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itize options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admap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P’s, Core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On-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4"/>
          <p:cNvSpPr/>
          <p:nvPr/>
        </p:nvSpPr>
        <p:spPr>
          <a:xfrm>
            <a:off x="689040" y="205740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March 31</a:t>
            </a:r>
            <a:r>
              <a:rPr b="1" lang="en-US" sz="1300" spc="-1" strike="noStrike" baseline="30000">
                <a:solidFill>
                  <a:srgbClr val="6666ff"/>
                </a:solidFill>
                <a:latin typeface="Arial"/>
              </a:rPr>
              <a:t>st</a:t>
            </a: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5"/>
          <p:cNvSpPr/>
          <p:nvPr/>
        </p:nvSpPr>
        <p:spPr>
          <a:xfrm>
            <a:off x="736560" y="3475080"/>
            <a:ext cx="2133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to Deliver Draft 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6"/>
          <p:cNvSpPr/>
          <p:nvPr/>
        </p:nvSpPr>
        <p:spPr>
          <a:xfrm>
            <a:off x="714240" y="323064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6th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7"/>
          <p:cNvSpPr/>
          <p:nvPr/>
        </p:nvSpPr>
        <p:spPr>
          <a:xfrm>
            <a:off x="3178080" y="260676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feedba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IBM on 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sors &amp; Core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erence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8"/>
          <p:cNvSpPr/>
          <p:nvPr/>
        </p:nvSpPr>
        <p:spPr>
          <a:xfrm>
            <a:off x="3051000" y="2362320"/>
            <a:ext cx="1422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10</a:t>
            </a:r>
            <a:r>
              <a:rPr b="1" lang="en-US" sz="1300" spc="-1" strike="noStrike" baseline="30000">
                <a:solidFill>
                  <a:srgbClr val="6666ff"/>
                </a:solidFill>
                <a:latin typeface="Arial"/>
              </a:rPr>
              <a:t>th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9"/>
          <p:cNvSpPr/>
          <p:nvPr/>
        </p:nvSpPr>
        <p:spPr>
          <a:xfrm>
            <a:off x="3178080" y="3855960"/>
            <a:ext cx="2133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iver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P’s,  Core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On-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0"/>
          <p:cNvSpPr/>
          <p:nvPr/>
        </p:nvSpPr>
        <p:spPr>
          <a:xfrm>
            <a:off x="3178080" y="358128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16th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21"/>
          <p:cNvSpPr/>
          <p:nvPr/>
        </p:nvSpPr>
        <p:spPr>
          <a:xfrm>
            <a:off x="663480" y="428292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Review of Draft 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sors &amp; Core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erence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2"/>
          <p:cNvSpPr/>
          <p:nvPr/>
        </p:nvSpPr>
        <p:spPr>
          <a:xfrm>
            <a:off x="689040" y="405432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8th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3"/>
          <p:cNvSpPr/>
          <p:nvPr/>
        </p:nvSpPr>
        <p:spPr>
          <a:xfrm>
            <a:off x="5359320" y="304812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Execu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evie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On-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24"/>
          <p:cNvSpPr/>
          <p:nvPr/>
        </p:nvSpPr>
        <p:spPr>
          <a:xfrm>
            <a:off x="5203800" y="283356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20</a:t>
            </a:r>
            <a:r>
              <a:rPr b="1" lang="en-US" sz="1300" spc="-1" strike="noStrike" baseline="30000">
                <a:solidFill>
                  <a:srgbClr val="6666ff"/>
                </a:solidFill>
                <a:latin typeface="Arial"/>
              </a:rPr>
              <a:t>th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5"/>
          <p:cNvSpPr/>
          <p:nvPr/>
        </p:nvSpPr>
        <p:spPr>
          <a:xfrm>
            <a:off x="7130880" y="304812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 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 Next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P’s, Participant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Team, Dir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6"/>
          <p:cNvSpPr/>
          <p:nvPr/>
        </p:nvSpPr>
        <p:spPr>
          <a:xfrm>
            <a:off x="7000920" y="281952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Late April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7"/>
          <p:cNvSpPr/>
          <p:nvPr/>
        </p:nvSpPr>
        <p:spPr>
          <a:xfrm>
            <a:off x="7710480" y="6194520"/>
            <a:ext cx="303120" cy="1299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8"/>
          <p:cNvSpPr/>
          <p:nvPr/>
        </p:nvSpPr>
        <p:spPr>
          <a:xfrm>
            <a:off x="7957080" y="6126120"/>
            <a:ext cx="99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liver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9"/>
          <p:cNvSpPr/>
          <p:nvPr/>
        </p:nvSpPr>
        <p:spPr>
          <a:xfrm>
            <a:off x="7256520" y="6091200"/>
            <a:ext cx="51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3520" y="914040"/>
            <a:ext cx="8410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g Box Company Assessment Foc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ro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rvey vs. Interview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’s Working W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resentative Challe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tions:  Effort vs. Val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tential Inhibitors to Ad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ssessment Foc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25520" y="1260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opportunities to help Big Box Company balance speed to market with qu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stand where  Big Box Company performs relative to modern software development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opportunities for improvements in SDLC and establish an actionable roadm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154080" y="622440"/>
            <a:ext cx="82454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31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328680" y="1014480"/>
            <a:ext cx="853416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5960" indent="-345960">
              <a:lnSpc>
                <a:spcPct val="107000"/>
              </a:lnSpc>
              <a:spcBef>
                <a:spcPts val="751"/>
              </a:spcBef>
              <a:spcAft>
                <a:spcPts val="451"/>
              </a:spcAft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25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ppro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92240" y="930240"/>
            <a:ext cx="3263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IBM  Assessment offers a structured approach to help teams measure and iteratively improve the business process of software delivery using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urvey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view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elected Artifact Revie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indings and Recommend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oad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-6480" y="5684760"/>
            <a:ext cx="9141120" cy="900360"/>
          </a:xfrm>
          <a:prstGeom prst="rect">
            <a:avLst/>
          </a:prstGeom>
          <a:gradFill rotWithShape="0">
            <a:gsLst>
              <a:gs pos="0">
                <a:srgbClr val="a9e4f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754200" y="5713560"/>
            <a:ext cx="7662600" cy="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f82"/>
                </a:solidFill>
                <a:latin typeface="Arial"/>
              </a:rPr>
              <a:t>Empower teams to measure, manage and incrementally improve their software delivery capabil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6"/>
          <p:cNvGrpSpPr/>
          <p:nvPr/>
        </p:nvGrpSpPr>
        <p:grpSpPr>
          <a:xfrm>
            <a:off x="4168800" y="752400"/>
            <a:ext cx="3906720" cy="4963320"/>
            <a:chOff x="4168800" y="752400"/>
            <a:chExt cx="3906720" cy="4963320"/>
          </a:xfrm>
        </p:grpSpPr>
        <p:sp>
          <p:nvSpPr>
            <p:cNvPr id="159" name="Freeform 7"/>
            <p:cNvSpPr/>
            <p:nvPr/>
          </p:nvSpPr>
          <p:spPr>
            <a:xfrm>
              <a:off x="4174920" y="2466720"/>
              <a:ext cx="2748240" cy="3070440"/>
            </a:xfrm>
            <a:prstGeom prst="pie">
              <a:avLst/>
            </a:prstGeom>
            <a:noFill/>
            <a:ln w="12600">
              <a:solidFill>
                <a:srgbClr val="00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8"/>
            <p:cNvSpPr/>
            <p:nvPr/>
          </p:nvSpPr>
          <p:spPr>
            <a:xfrm>
              <a:off x="5343480" y="1057320"/>
              <a:ext cx="2381400" cy="612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4ecf8"/>
                </a:gs>
                <a:gs pos="100000">
                  <a:srgbClr val="c6edf8">
                    <a:alpha val="0"/>
                  </a:srgbClr>
                </a:gs>
              </a:gsLst>
              <a:lin ang="27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1" name="Picture 9" descr="Sphere3"/>
            <p:cNvPicPr/>
            <p:nvPr/>
          </p:nvPicPr>
          <p:blipFill>
            <a:blip r:embed="rId1"/>
            <a:stretch/>
          </p:blipFill>
          <p:spPr>
            <a:xfrm>
              <a:off x="4168800" y="752400"/>
              <a:ext cx="1563480" cy="15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AutoShape 10"/>
            <p:cNvSpPr/>
            <p:nvPr/>
          </p:nvSpPr>
          <p:spPr>
            <a:xfrm>
              <a:off x="5383080" y="2173320"/>
              <a:ext cx="2379600" cy="612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4ecf8"/>
                </a:gs>
                <a:gs pos="100000">
                  <a:srgbClr val="c6edf8">
                    <a:alpha val="0"/>
                  </a:srgbClr>
                </a:gs>
              </a:gsLst>
              <a:lin ang="27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11"/>
            <p:cNvSpPr/>
            <p:nvPr/>
          </p:nvSpPr>
          <p:spPr>
            <a:xfrm>
              <a:off x="5383080" y="3333600"/>
              <a:ext cx="2379600" cy="611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4ecf8"/>
                </a:gs>
                <a:gs pos="100000">
                  <a:srgbClr val="c6edf8">
                    <a:alpha val="0"/>
                  </a:srgbClr>
                </a:gs>
              </a:gsLst>
              <a:lin ang="27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12"/>
            <p:cNvSpPr/>
            <p:nvPr/>
          </p:nvSpPr>
          <p:spPr>
            <a:xfrm>
              <a:off x="5383080" y="4440240"/>
              <a:ext cx="2379600" cy="612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4ecf8"/>
                </a:gs>
                <a:gs pos="100000">
                  <a:srgbClr val="c6edf8">
                    <a:alpha val="0"/>
                  </a:srgbClr>
                </a:gs>
              </a:gsLst>
              <a:lin ang="27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3"/>
            <p:cNvSpPr/>
            <p:nvPr/>
          </p:nvSpPr>
          <p:spPr>
            <a:xfrm>
              <a:off x="5440320" y="1112760"/>
              <a:ext cx="234324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88"/>
                </a:spcBef>
                <a:spcAft>
                  <a:spcPts val="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licit and set business value objectiv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4"/>
            <p:cNvSpPr/>
            <p:nvPr/>
          </p:nvSpPr>
          <p:spPr>
            <a:xfrm>
              <a:off x="5456160" y="2208240"/>
              <a:ext cx="22035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88"/>
                </a:spcBef>
                <a:spcAft>
                  <a:spcPts val="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termine the practice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ocus are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5"/>
            <p:cNvSpPr/>
            <p:nvPr/>
          </p:nvSpPr>
          <p:spPr>
            <a:xfrm>
              <a:off x="5456160" y="3423960"/>
              <a:ext cx="249876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celerate and monitor practice adop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16"/>
            <p:cNvSpPr/>
            <p:nvPr/>
          </p:nvSpPr>
          <p:spPr>
            <a:xfrm>
              <a:off x="5456160" y="4508280"/>
              <a:ext cx="26193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437"/>
                </a:spcBef>
                <a:spcAft>
                  <a:spcPts val="26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view and communicate business resul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9" name="Picture 17" descr="Sphere3"/>
            <p:cNvPicPr/>
            <p:nvPr/>
          </p:nvPicPr>
          <p:blipFill>
            <a:blip r:embed="rId2"/>
            <a:stretch/>
          </p:blipFill>
          <p:spPr>
            <a:xfrm>
              <a:off x="4168800" y="4091040"/>
              <a:ext cx="1563480" cy="155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18" descr="Sphere3"/>
            <p:cNvPicPr/>
            <p:nvPr/>
          </p:nvPicPr>
          <p:blipFill>
            <a:blip r:embed="rId3"/>
            <a:stretch/>
          </p:blipFill>
          <p:spPr>
            <a:xfrm>
              <a:off x="4168800" y="1830240"/>
              <a:ext cx="1563480" cy="155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19" descr="Sphere3"/>
            <p:cNvPicPr/>
            <p:nvPr/>
          </p:nvPicPr>
          <p:blipFill>
            <a:blip r:embed="rId4"/>
            <a:stretch/>
          </p:blipFill>
          <p:spPr>
            <a:xfrm>
              <a:off x="4168800" y="2960640"/>
              <a:ext cx="1563480" cy="15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20"/>
            <p:cNvSpPr/>
            <p:nvPr/>
          </p:nvSpPr>
          <p:spPr>
            <a:xfrm>
              <a:off x="4410000" y="1236600"/>
              <a:ext cx="10587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Ph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21"/>
            <p:cNvSpPr/>
            <p:nvPr/>
          </p:nvSpPr>
          <p:spPr>
            <a:xfrm>
              <a:off x="4410000" y="2297160"/>
              <a:ext cx="10587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Ph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22"/>
            <p:cNvSpPr/>
            <p:nvPr/>
          </p:nvSpPr>
          <p:spPr>
            <a:xfrm>
              <a:off x="4410000" y="3397320"/>
              <a:ext cx="1058760" cy="86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Ph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23"/>
            <p:cNvSpPr/>
            <p:nvPr/>
          </p:nvSpPr>
          <p:spPr>
            <a:xfrm>
              <a:off x="4421160" y="4554360"/>
              <a:ext cx="10587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Ph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24"/>
            <p:cNvSpPr/>
            <p:nvPr/>
          </p:nvSpPr>
          <p:spPr>
            <a:xfrm>
              <a:off x="6000840" y="5315760"/>
              <a:ext cx="2050920" cy="399960"/>
            </a:xfrm>
            <a:prstGeom prst="roundRect">
              <a:avLst>
                <a:gd name="adj" fmla="val 50000"/>
              </a:avLst>
            </a:prstGeom>
            <a:solidFill>
              <a:srgbClr val="0066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  <a:ea typeface="Gulim"/>
                </a:rPr>
                <a:t>Go back to Phase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5"/>
            <p:cNvSpPr/>
            <p:nvPr/>
          </p:nvSpPr>
          <p:spPr>
            <a:xfrm>
              <a:off x="4197240" y="5135400"/>
              <a:ext cx="2557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1000" spc="-1" strike="noStrike">
                  <a:solidFill>
                    <a:srgbClr val="000000"/>
                  </a:solidFill>
                  <a:latin typeface="Arial"/>
                </a:rPr>
                <a:t>Confirm results delivered</a:t>
              </a:r>
              <a:br>
                <a:rPr sz="1000"/>
              </a:br>
              <a:r>
                <a:rPr b="0" i="1" lang="en-CA" sz="1000" spc="-1" strike="noStrike">
                  <a:solidFill>
                    <a:srgbClr val="000000"/>
                  </a:solidFill>
                  <a:latin typeface="Arial"/>
                </a:rPr>
                <a:t>and start next proje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Right Arrow 48"/>
          <p:cNvSpPr/>
          <p:nvPr/>
        </p:nvSpPr>
        <p:spPr>
          <a:xfrm flipV="1" rot="2817000">
            <a:off x="3474000" y="1625760"/>
            <a:ext cx="1020960" cy="49860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52280" y="79524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your openness &amp; particip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the time you spent with 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ver the past weeks we hav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rveyed 51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ividuals with 29 respon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viewed 34 stakeholders  - 3 have multiple roles - 9 also in surve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athered CIO and executive perspecti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viewed representative artifacts and templates provided by Big Box Compa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Chart 7" descr=""/>
          <p:cNvPicPr/>
          <p:nvPr/>
        </p:nvPicPr>
        <p:blipFill>
          <a:blip r:embed="rId1"/>
          <a:stretch/>
        </p:blipFill>
        <p:spPr>
          <a:xfrm>
            <a:off x="2206800" y="2968560"/>
            <a:ext cx="4200480" cy="301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9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re SDLC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3" name="Group 14"/>
          <p:cNvGrpSpPr/>
          <p:nvPr/>
        </p:nvGrpSpPr>
        <p:grpSpPr>
          <a:xfrm>
            <a:off x="1600200" y="747720"/>
            <a:ext cx="5553000" cy="5500800"/>
            <a:chOff x="1600200" y="747720"/>
            <a:chExt cx="5553000" cy="5500800"/>
          </a:xfrm>
        </p:grpSpPr>
        <p:pic>
          <p:nvPicPr>
            <p:cNvPr id="184" name="Picture 4" descr=""/>
            <p:cNvPicPr/>
            <p:nvPr/>
          </p:nvPicPr>
          <p:blipFill>
            <a:blip r:embed="rId1"/>
            <a:stretch/>
          </p:blipFill>
          <p:spPr>
            <a:xfrm>
              <a:off x="1600200" y="747720"/>
              <a:ext cx="5553000" cy="550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Box 8"/>
            <p:cNvSpPr/>
            <p:nvPr/>
          </p:nvSpPr>
          <p:spPr>
            <a:xfrm>
              <a:off x="2930040" y="2654280"/>
              <a:ext cx="345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1f497d"/>
                  </a:solidFill>
                  <a:latin typeface="Arial"/>
                </a:rPr>
                <a:t>*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Box 9"/>
            <p:cNvSpPr/>
            <p:nvPr/>
          </p:nvSpPr>
          <p:spPr>
            <a:xfrm>
              <a:off x="3718080" y="4412520"/>
              <a:ext cx="345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1f497d"/>
                  </a:solidFill>
                  <a:latin typeface="Arial"/>
                </a:rPr>
                <a:t>*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10"/>
            <p:cNvSpPr/>
            <p:nvPr/>
          </p:nvSpPr>
          <p:spPr>
            <a:xfrm flipH="1">
              <a:off x="5933520" y="4393800"/>
              <a:ext cx="2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1f497d"/>
                  </a:solidFill>
                  <a:latin typeface="Arial"/>
                </a:rPr>
                <a:t>*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3"/>
          <p:cNvGrpSpPr/>
          <p:nvPr/>
        </p:nvGrpSpPr>
        <p:grpSpPr>
          <a:xfrm>
            <a:off x="6638760" y="5627520"/>
            <a:ext cx="2019600" cy="764280"/>
            <a:chOff x="6638760" y="5627520"/>
            <a:chExt cx="2019600" cy="764280"/>
          </a:xfrm>
        </p:grpSpPr>
        <p:sp>
          <p:nvSpPr>
            <p:cNvPr id="189" name="TextBox 11"/>
            <p:cNvSpPr/>
            <p:nvPr/>
          </p:nvSpPr>
          <p:spPr>
            <a:xfrm>
              <a:off x="6638760" y="5627520"/>
              <a:ext cx="4273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1f497d"/>
                  </a:solidFill>
                  <a:latin typeface="Arial"/>
                </a:rPr>
                <a:t>*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Box 12"/>
            <p:cNvSpPr/>
            <p:nvPr/>
          </p:nvSpPr>
          <p:spPr>
            <a:xfrm>
              <a:off x="6933600" y="5721120"/>
              <a:ext cx="172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f497d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1f497d"/>
                  </a:solidFill>
                  <a:latin typeface="Arial"/>
                </a:rPr>
                <a:t>= Focus Are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Rectangle 15"/>
          <p:cNvSpPr/>
          <p:nvPr/>
        </p:nvSpPr>
        <p:spPr>
          <a:xfrm>
            <a:off x="276120" y="793800"/>
            <a:ext cx="238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ctices used for the 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280" y="-194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ypical Large Company Prof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Object 2" descr=""/>
          <p:cNvPicPr/>
          <p:nvPr/>
        </p:nvPicPr>
        <p:blipFill>
          <a:blip r:embed="rId1"/>
          <a:stretch/>
        </p:blipFill>
        <p:spPr>
          <a:xfrm>
            <a:off x="650880" y="1523880"/>
            <a:ext cx="7639200" cy="491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Object 2" descr=""/>
          <p:cNvPicPr/>
          <p:nvPr/>
        </p:nvPicPr>
        <p:blipFill>
          <a:blip r:embed="rId1"/>
          <a:stretch/>
        </p:blipFill>
        <p:spPr>
          <a:xfrm>
            <a:off x="593640" y="1542960"/>
            <a:ext cx="7642440" cy="4878360"/>
          </a:xfrm>
          <a:prstGeom prst="rect">
            <a:avLst/>
          </a:prstGeom>
          <a:ln w="0">
            <a:noFill/>
          </a:ln>
        </p:spPr>
      </p:pic>
      <p:sp>
        <p:nvSpPr>
          <p:cNvPr id="195" name="Oval 6"/>
          <p:cNvSpPr/>
          <p:nvPr/>
        </p:nvSpPr>
        <p:spPr>
          <a:xfrm>
            <a:off x="6521400" y="738360"/>
            <a:ext cx="401760" cy="245880"/>
          </a:xfrm>
          <a:prstGeom prst="ellipse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7"/>
          <p:cNvSpPr/>
          <p:nvPr/>
        </p:nvSpPr>
        <p:spPr>
          <a:xfrm>
            <a:off x="6521400" y="1517760"/>
            <a:ext cx="401760" cy="245880"/>
          </a:xfrm>
          <a:prstGeom prst="ellipse">
            <a:avLst/>
          </a:prstGeom>
          <a:noFill/>
          <a:ln w="38160">
            <a:solidFill>
              <a:srgbClr val="25406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1411200" y="0"/>
            <a:ext cx="633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ig Box Company’s Self-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9"/>
          <p:cNvSpPr/>
          <p:nvPr/>
        </p:nvSpPr>
        <p:spPr>
          <a:xfrm>
            <a:off x="6532560" y="1111320"/>
            <a:ext cx="401760" cy="245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0"/>
          <p:cNvSpPr/>
          <p:nvPr/>
        </p:nvSpPr>
        <p:spPr>
          <a:xfrm>
            <a:off x="7140600" y="345960"/>
            <a:ext cx="1963800" cy="20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BC current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at IBM typically s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BC’s 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BM Finding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Object 2" descr=""/>
          <p:cNvPicPr/>
          <p:nvPr/>
        </p:nvPicPr>
        <p:blipFill>
          <a:blip r:embed="rId1"/>
          <a:stretch/>
        </p:blipFill>
        <p:spPr>
          <a:xfrm>
            <a:off x="722160" y="1571760"/>
            <a:ext cx="7356600" cy="4663800"/>
          </a:xfrm>
          <a:prstGeom prst="rect">
            <a:avLst/>
          </a:prstGeom>
          <a:ln w="0">
            <a:noFill/>
          </a:ln>
        </p:spPr>
      </p:pic>
      <p:sp>
        <p:nvSpPr>
          <p:cNvPr id="202" name="Oval 8"/>
          <p:cNvSpPr/>
          <p:nvPr/>
        </p:nvSpPr>
        <p:spPr>
          <a:xfrm>
            <a:off x="6622920" y="739800"/>
            <a:ext cx="401760" cy="245880"/>
          </a:xfrm>
          <a:prstGeom prst="ellipse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0"/>
          <p:cNvSpPr/>
          <p:nvPr/>
        </p:nvSpPr>
        <p:spPr>
          <a:xfrm>
            <a:off x="7113600" y="387360"/>
            <a:ext cx="1963800" cy="20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BC’s assessed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at IBM typically s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ffective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1"/>
          <p:cNvSpPr/>
          <p:nvPr/>
        </p:nvSpPr>
        <p:spPr>
          <a:xfrm>
            <a:off x="6620040" y="1557360"/>
            <a:ext cx="401400" cy="245880"/>
          </a:xfrm>
          <a:prstGeom prst="ellipse">
            <a:avLst/>
          </a:prstGeom>
          <a:noFill/>
          <a:ln w="38160">
            <a:solidFill>
              <a:srgbClr val="10111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0"/>
          <p:cNvSpPr/>
          <p:nvPr/>
        </p:nvSpPr>
        <p:spPr>
          <a:xfrm>
            <a:off x="6608880" y="1111320"/>
            <a:ext cx="401400" cy="245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14:53:41Z</dcterms:created>
  <dc:creator>tsteighn</dc:creator>
  <dc:description/>
  <dc:language>en-US</dc:language>
  <cp:lastModifiedBy>Denise Cook</cp:lastModifiedBy>
  <dcterms:modified xsi:type="dcterms:W3CDTF">2010-08-13T19:01:28Z</dcterms:modified>
  <cp:revision>474</cp:revision>
  <dc:subject/>
  <dc:title>Click to edit title style</dc:title>
</cp:coreProperties>
</file>