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9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jpeg" ContentType="image/jpeg"/>
  <Override PartName="/ppt/media/image5.wmf" ContentType="image/x-wmf"/>
  <Override PartName="/ppt/media/image10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9EEAA-4CBC-4C85-99A9-BBE24922B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3520" y="3693600"/>
            <a:ext cx="80769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63DC8-32BC-4D53-A079-E50530E90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3352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208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E77EA-D951-489E-8EC3-708A66F7D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64480" y="106668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95800" y="106668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33520" y="369360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64480" y="369360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95800" y="369360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586C9-C246-45AE-9486-97A6B03A7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3C2D9F-0E1E-4A24-AF8F-4BAE83E892F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2CB1F3-A723-45A8-93B8-560A9C1D3F8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6531F3-0C95-4B92-B899-60441916880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891ED8-6BE5-4C5D-BCBC-8FC55EF5B52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D6F256-3320-487F-B8AB-1AB1208AC16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75960" y="-115920"/>
            <a:ext cx="78483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531B1C-F18C-450E-B85A-03DF17F300F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3352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4E925E-738B-4C09-AD9D-1B2697D5D8C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8415E-52C9-4834-AC20-B14704003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208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161F30-B363-48BC-A520-AA446463A25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33520" y="3693600"/>
            <a:ext cx="80769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F2EE58-96FC-4607-9187-FED032963F4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3520" y="3693600"/>
            <a:ext cx="80769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0F66BF-A72D-49AC-BAE0-C354D4F15F6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3352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208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3776E7-A740-4D21-BA57-2032C7923FF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64480" y="106668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95800" y="106668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33520" y="369360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64480" y="369360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95800" y="369360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C2AE79-C1FA-45BE-9FC5-9B31B9AFCB7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E3EF1-5930-4E98-91B8-3370DF7F0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D5209-9323-4B6C-915B-5A3149865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62DA7-B1B1-4A2C-82E4-BDB64FB61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5960" y="-115920"/>
            <a:ext cx="78483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5F5F4-9986-489F-AAE6-A20B90B9D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3352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09D7F-2633-46CD-8570-19CFE3C7C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208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7DB78-E512-4558-80FF-2772AD547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33520" y="3693600"/>
            <a:ext cx="80769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FF3BB-5A16-4528-8D5E-7BE0E0826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-14400"/>
            <a:ext cx="9144000" cy="68868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120000"/>
              </a:lnSpc>
              <a:spcBef>
                <a:spcPts val="700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75960" y="6540120"/>
            <a:ext cx="19047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8D31A-9455-4727-B358-F238040F4B6C}" type="datetime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048120" y="6553080"/>
            <a:ext cx="3124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315200" y="-1676520"/>
            <a:ext cx="2541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723888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13CBE-303B-4F15-BE95-118E51B97D3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971800" y="106668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-14400"/>
            <a:ext cx="9144000" cy="68868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129528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68bba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568bba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4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570b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570b3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5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9F9FC-B55F-40A2-AD1B-FDD3EF32777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 Unicode MS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bmpi.org/" TargetMode="External"/><Relationship Id="rId2" Type="http://schemas.openxmlformats.org/officeDocument/2006/relationships/hyperlink" Target="http://www.omg.org/docs/dtc/06-02-01.pdf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29528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68bba"/>
                </a:solidFill>
                <a:latin typeface="Arial"/>
              </a:rPr>
              <a:t>BPMN</a:t>
            </a:r>
            <a:endParaRPr b="0" lang="en-US" sz="4800" spc="-1" strike="noStrike">
              <a:solidFill>
                <a:srgbClr val="568bba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0" y="281952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n Introduction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445600" y="6369120"/>
            <a:ext cx="56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6677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b-Pro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334120" y="1981080"/>
            <a:ext cx="3352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20000"/>
              </a:lnSpc>
              <a:spcBef>
                <a:spcPts val="601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267080" y="1143000"/>
            <a:ext cx="472464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Sub-Process can be in an expanded form that shows the process details of the a lower-level set of activit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685800" y="1143000"/>
            <a:ext cx="3095640" cy="4724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1908F-1941-4D81-AD84-36819E6647B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6829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ne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52280" y="3809880"/>
            <a:ext cx="8839440" cy="26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 Sequence Flow is used to show the order that activities will be performed in a Proc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 Message Flow is used to show the flow of messages between two entities that are prepared to send and receive th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n Association is used to associate information and artifacts with flow objec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143000" y="1066680"/>
            <a:ext cx="6705720" cy="2633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EC5C8-763A-468D-B92E-7BC94C7B5220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6829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atewa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114800" y="1371600"/>
            <a:ext cx="4800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Gateways are modeling elements that are used to control how Sequence Flows interact as they converge and diverge within a Proces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If the flow does not need to be controlled, then a Gateway is not need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04920" y="1295280"/>
            <a:ext cx="3344760" cy="303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977F2-AC01-4E5F-AB79-1D4BA6E6EC0E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6829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wimla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04920" y="4191120"/>
            <a:ext cx="85341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 Pool is a “swimlane” and a graphical container for partitioning a set of activities from other Pools, usually in the context of B2B situ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 Lane is a sub-partition within a Pool and will extend the entire length of the Pool, either vertically or horizontal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600200" y="906480"/>
            <a:ext cx="5105520" cy="2903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66B01-1599-445C-BB81-4A276EFAF8F6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68295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tifa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581280" y="1066680"/>
            <a:ext cx="487692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Data Objects are not flow objects (i.e., connected through Sequence Flow), but they do provide information about how documents, data, and other objects are used and updated within a Proc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Text Annotations are a mechanism for a modeler to provide additional information for the reader of a BPMN diagra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Groups provide a mechanism to visually organize activ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984240" y="1582560"/>
            <a:ext cx="1454040" cy="3446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E5DAA-3BBA-4468-8EC0-A142E5B3404D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6858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rmal Flo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304920" y="2057400"/>
            <a:ext cx="8610480" cy="2179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0F8D0-AA95-400C-8C0E-C9E546795854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68295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2B Mode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28600" y="1371600"/>
            <a:ext cx="8610480" cy="389412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228600" y="5562720"/>
            <a:ext cx="8458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5f9e"/>
                </a:solidFill>
                <a:latin typeface="Arial"/>
              </a:rPr>
              <a:t>Enhancements are being considered for BPMN 1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0A057-ADA6-4B9E-ABD9-33DF196F12E7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6829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ception Hand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" y="1143000"/>
            <a:ext cx="5562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Intermediate Events attached to the boundary of an activity represent triggers that can interrupt the activit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ll work within the activity will be stopped and flow will proceed from the Even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Timer, Exceptions, Messages, etc. can be Trigg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6019920" y="1666800"/>
            <a:ext cx="1471320" cy="138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45376-A6BE-48CB-B14F-1E661CE7D7ED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ensation Handling and Transa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95680" y="1219320"/>
            <a:ext cx="464832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Transaction is an activity that has a double border. Transactions are supported by a transaction protocol (e.g., WS-Transaction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Normal Outgoing Sequence Flow represents the path to follow a successful comple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Cancel Intermediate Event represents the path to follow a cancelled comple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Exception Intermediate Event represents the path to follow a transaction haza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Activities used for compensate (with marker) are outside normal flow and are Associated normal activiti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228600" y="1268280"/>
            <a:ext cx="3867120" cy="4294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875E8-16C2-47A6-AA4C-61465674883D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Complex Pro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76320" y="1535040"/>
            <a:ext cx="8991360" cy="4332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87D30-0049-4C48-B0F4-1FDEA02B21C0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finition of BPM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Business Process Modeling Notation provides: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807b"/>
                </a:solidFill>
                <a:latin typeface="Arial"/>
                <a:ea typeface="Times New Roman"/>
              </a:rPr>
              <a:t>The capability of defining and understanding their internal and external business procedures through a Business Process Diagra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807b"/>
                </a:solidFill>
                <a:latin typeface="Arial"/>
                <a:ea typeface="Times New Roman"/>
              </a:rPr>
              <a:t>The ability to communicate these procedures in a standard manner.</a:t>
            </a:r>
            <a:r>
              <a:rPr b="0" lang="en-US" sz="2400" spc="-1" strike="noStrike">
                <a:solidFill>
                  <a:srgbClr val="7f807b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A6796-E6FC-45BA-BBB6-9E0D6B5578E4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120000"/>
              </a:lnSpc>
              <a:spcBef>
                <a:spcPts val="700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BPMI 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cc"/>
                </a:solidFill>
                <a:uFillTx/>
                <a:latin typeface="Arial"/>
                <a:hlinkClick r:id="rId1"/>
              </a:rPr>
              <a:t>www.bmpi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120000"/>
              </a:lnSpc>
              <a:spcBef>
                <a:spcPts val="700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BPMN specification </a:t>
            </a:r>
            <a:r>
              <a:rPr b="0" lang="en-US" sz="2800" spc="-1" strike="noStrike" u="sng">
                <a:solidFill>
                  <a:srgbClr val="cccccc"/>
                </a:solidFill>
                <a:uFillTx/>
                <a:latin typeface="Arial"/>
                <a:hlinkClick r:id="rId2"/>
              </a:rPr>
              <a:t>http://www.omg.org/docs/dtc/06-02-01.pdf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marL="291960" indent="-291960">
              <a:lnSpc>
                <a:spcPct val="120000"/>
              </a:lnSpc>
              <a:spcBef>
                <a:spcPts val="700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BPMN stencil for Visio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e in ISIS: BPMN 0-9-V2003.v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120000"/>
              </a:lnSpc>
              <a:spcBef>
                <a:spcPts val="700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Enterprise Architect 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siness Process Mode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259EC-85BA-4D18-902A-5153AEBD7C09}" type="slidenum">
              <a:t>20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re Set of Diagram Ele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572000" y="1981080"/>
            <a:ext cx="426708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Core set of modeling elements enables the easy development of simple Business Process Diagr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Looks familiar to most Business Analysts (flowchart diagra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069920" y="1878120"/>
            <a:ext cx="2587680" cy="2693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16B8E-5C55-4132-9048-65ACDC6A2C14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IS guid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Event triggers a process: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process should have at least one ev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Sequence flow links: 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ities in the same swim lane (see lat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Message flow links: 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ities between teams so swim lane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ynchronous activ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A282B-6D58-4A47-9BAD-9F25448B3BDE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114800" y="1219320"/>
            <a:ext cx="487692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n Event is something that “happens” during the course of a business proc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Events affect the flow of the Process and usually have a trigger or a resu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Events can start, interrupt, or end the flo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304920" y="1066680"/>
            <a:ext cx="3282840" cy="4953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A8322-F341-45D3-BE28-958C9C84EA1B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IS guid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5029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0">
              <a:lnSpc>
                <a:spcPct val="12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175f9e"/>
                </a:solidFill>
                <a:latin typeface="Arial"/>
              </a:rPr>
              <a:t>Intermediate Events:</a:t>
            </a:r>
            <a:endParaRPr b="0" lang="en-US" sz="25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resents an exception or compensation handl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wn by placing the Intermediate Event on the boundary of a Task or Sub-Proc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timer exp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6095880" y="1905120"/>
          <a:ext cx="1955880" cy="264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1905120"/>
                    <a:ext cx="1955880" cy="264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09CE4-3372-442C-8934-F09B40CCA51B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IS guid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Intermediate event types indicate the different ways that a Process may be interrupted or delayed after it has started. </a:t>
            </a:r>
            <a:endParaRPr b="0" lang="en-US" sz="2000" spc="-1" strike="noStrike">
              <a:solidFill>
                <a:srgbClr val="175f9e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75f9e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175f9e"/>
                </a:solidFill>
                <a:latin typeface="Arial"/>
              </a:rPr>
              <a:t>Compensation Event</a:t>
            </a:r>
            <a:endParaRPr b="0" lang="en-US" sz="25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is used for compensation handling--both setting and performing compensation. It call for compensation if the Event is part of a Normal Flow. It reacts to a named compensation call when attached to the boundary of an activity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175f9e"/>
                </a:solidFill>
                <a:latin typeface="Arial"/>
              </a:rPr>
              <a:t>Rule Event</a:t>
            </a:r>
            <a:endParaRPr b="0" lang="en-US" sz="25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is only used for exception handling. This type of event is triggered when a Rule becomes true. Link Ev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228600" y="2438280"/>
          <a:ext cx="318960" cy="3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438280"/>
                    <a:ext cx="318960" cy="3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" name=""/>
          <p:cNvGraphicFramePr/>
          <p:nvPr/>
        </p:nvGraphicFramePr>
        <p:xfrm>
          <a:off x="228600" y="4253040"/>
          <a:ext cx="318960" cy="318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4253040"/>
                    <a:ext cx="318960" cy="31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A3EB4-33EC-4045-9AD7-2F5C5CF79B47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IS guid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400" y="990720"/>
            <a:ext cx="6781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8580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175f9e"/>
                </a:solidFill>
                <a:latin typeface="Arial"/>
              </a:rPr>
              <a:t>Link</a:t>
            </a:r>
            <a:endParaRPr b="0" lang="en-US" sz="25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Link is a mechanism for connecting an End Event (Result) of one Process to an Intermediate Event (Trigger) in another Process. Paired Intermediate Events can also be used as “Go To” objects within a Proces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175f9e"/>
                </a:solidFill>
                <a:latin typeface="Arial"/>
              </a:rPr>
              <a:t>Multiple Event</a:t>
            </a:r>
            <a:endParaRPr b="0" lang="en-US" sz="25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means that there are multiple ways of triggering the Event. Only one of them will be required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7200" y="1523880"/>
          <a:ext cx="318960" cy="3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523880"/>
                    <a:ext cx="318960" cy="3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2" name=""/>
          <p:cNvGraphicFramePr/>
          <p:nvPr/>
        </p:nvGraphicFramePr>
        <p:xfrm>
          <a:off x="457200" y="3276720"/>
          <a:ext cx="318960" cy="318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3276720"/>
                    <a:ext cx="318960" cy="31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10645-F597-45AB-8E21-B444E7C07EBE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6677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ivi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562720" y="1447920"/>
            <a:ext cx="3352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n activity is work that is performed within a business proces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n activity can be atomic or non-atomic (compound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The types of activities that are a part of a Process Model are: Process, Sub-Process, and Tas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52280" y="1523880"/>
            <a:ext cx="5064120" cy="3367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B9D63-6AD3-46B2-AD68-0B902EA672E6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28T18:27:15Z</dcterms:created>
  <dc:creator>jboyer</dc:creator>
  <dc:description/>
  <dc:language>en-US</dc:language>
  <cp:lastModifiedBy>Julio Prez</cp:lastModifiedBy>
  <dcterms:modified xsi:type="dcterms:W3CDTF">2008-12-17T13:17:42Z</dcterms:modified>
  <cp:revision>24</cp:revision>
  <dc:subject/>
  <dc:title>BPMN</dc:title>
</cp:coreProperties>
</file>